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1280" y="-1440"/>
            <a:ext cx="2916360" cy="13428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47DE4-52E5-42AD-B5D4-8B39195AA86B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600360" cy="1657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5271-85E5-46FF-B736-1A86E1897A4C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aopalliance.sourceforge.net/" TargetMode="Externa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46384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の正体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の内部では何が起こっているのか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771280" y="5229360"/>
            <a:ext cx="596916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ロジェクト主催 “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からさわぎ”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初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改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栗原 傑享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asataka Kurihar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スタッ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定義に追加された順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リストに保存され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の子要素中で出現順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リストに追加さ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リストの先頭から順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調べられ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名と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指示した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正規表現パターンのマッチを取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マッチした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部を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roundAdvice#invoke(Joinpoint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コ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リストが尽きるとコンポーネントメソッドを実行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から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今度は実行した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部を逆順に実行してい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oinpoin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ーケン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556000" y="981000"/>
            <a:ext cx="6135480" cy="559296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7640" y="1341360"/>
            <a:ext cx="252108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etComponent(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後に、コンポーネントのメソッド利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opProxy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で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メソッド呼び出しをインターセプトす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roxy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が生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スタックされた最初の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を取得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を自分を引数にして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roundAdvice 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#invoke(Joinpoint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で呼ばれ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Joinpoint#proceed(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前後で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スタックされた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があれば取得して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が無くなればコンポーネントメソッドを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omponent </a:t>
            </a:r>
            <a:r>
              <a:rPr b="0" lang="ja-JP" sz="1400" spc="-1" strike="noStrike">
                <a:solidFill>
                  <a:srgbClr val="ff0000"/>
                </a:solidFill>
                <a:latin typeface="Arial"/>
              </a:rPr>
              <a:t>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ore Con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roundAdvice 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メソッドのコールスタックをさかのぼるように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トランザクション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T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T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 Extension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パッケー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透明なサービ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のみでユーザーコードに何も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x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関連のコーディングを行わなくてよ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098800" y="4005360"/>
            <a:ext cx="6505560" cy="224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j2ee-config.xml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TxCar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2ee:requiredTx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211640" y="573408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spec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x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dvice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記述するだけで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抽象クラス・インターフェイスの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特徴的な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ンターフェイス・抽象クラ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普通にはインスタンス化でき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内部で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opProx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がバイトコードエンジニアリングによって拡張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nhance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クラス生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24000" y="4508640"/>
            <a:ext cx="662328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sample.org.seasar.Speaker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sample.org.seasar.HelloAdvice“/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124000" y="2997360"/>
            <a:ext cx="662472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HelloAdvice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oundAdvic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bject invoke(Joinpoint joinpoint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ow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84720" y="378936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oinpoint#proceed(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呼ばなければ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利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機能をコンテナ機能として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をシンプルに行え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エレメントを記述するの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round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しなければならな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ンターフェイスが１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多種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実は必要なかっ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pring Framework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多くのパターン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があ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インターフェイスや抽象クラスを実装でき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オブジェクトパターンを利用でき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にかく易し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実装へのヒ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抽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が新しい概念のために、必勝パターンが確立してい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何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で作ればいいのか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外部に依存する部分を集める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ヒ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2ShellAd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例外処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特殊なメソッド実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オブジェクト同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非同期実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Shell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332000" y="1052640"/>
            <a:ext cx="7586640" cy="30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sample.SpeakerImpl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org.seasar.extension.shellscript.S2ShellAdvice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addScriptXML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'sample/sample-script.xml'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32000" y="4365720"/>
            <a:ext cx="5497560" cy="188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shel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scrip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joinpoi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say"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languag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hino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binding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ame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bindin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ut.println("hello " + nam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scrip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shel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140360" y="595008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script&g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レメントボディにスクリプト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140360" y="299736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外部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ファイル参照をして、メソッド実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140360" y="350028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スクリプトエンジンの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PI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は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dvic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隠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例外処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42920" y="1268280"/>
            <a:ext cx="792180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xceptionHandleAdvice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oundAdvic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99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009999"/>
                </a:solidFill>
                <a:latin typeface="ＭＳ ゴシック"/>
                <a:ea typeface="ＭＳ ゴシック"/>
              </a:rPr>
              <a:t>//</a:t>
            </a:r>
            <a:r>
              <a:rPr b="1" lang="ja-JP" sz="1600" spc="-1" strike="noStrike">
                <a:solidFill>
                  <a:srgbClr val="009999"/>
                </a:solidFill>
                <a:latin typeface="ＭＳ ゴシック"/>
                <a:ea typeface="ＭＳ ゴシック"/>
              </a:rPr>
              <a:t>ハンドラへのアクセッサ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fireExceptionHandler(Joinpoint joinpoint, Exception e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f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handler.size() == 0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 fals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for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Iterator it = handlers.iterator(); it.hasNext();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xceptionHandler handler = (ExceptionHandler)it.nex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handler.handleException(joinpoint, e)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ru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bject invoke(Joinpoint joinpoint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ow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bject ret =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ull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ry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t = joinpoint.proceed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atch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Exception e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f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!fireExceptionHandler(joinpoint, e)) {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re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76720" y="557532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例外発生時、イベントハンドラを発火す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43280" y="4292640"/>
            <a:ext cx="4321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oinpoint#proceed(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ry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ブロックで保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オブジェクト同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47640" y="1844640"/>
            <a:ext cx="708660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yncObjectAdvice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oundAdvic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bject invoke(Joinpoint joinpoint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ow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bject target = joinpoint.getTarge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synchronized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target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joinpoint.proceed()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95640" y="3716280"/>
            <a:ext cx="453708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ynchronized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ブロックによってコンポーネントへのマルチスレッドアクセスを排他し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非同期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76320" y="1125360"/>
            <a:ext cx="6799320" cy="532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syncCallAdvice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oundAdvic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syncRunner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Runn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Joinpoint joinpoin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syncRunner(Joinpoint joinpoint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joinpoint = joinpoin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ry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oinpoint.proceed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atch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Throwable ignore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bject invoke(Joinpoint joinpoint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ow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syncRunner runner =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syncRunner(joinpoin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read thread =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ead(runne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read.star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oolean.TR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95640" y="616572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別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hread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oinpoint#proceed(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行す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95640" y="3716280"/>
            <a:ext cx="453708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oinpoint#proceed(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返値と例外をコールバックする等の工夫の余地あ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3640" y="1270080"/>
            <a:ext cx="5616360" cy="52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グラミングを行う対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本質的な関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アプリケーション固有の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クラス固有の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でない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横断的な関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複数アプリケーションで出現する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複数クラスで出現する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な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関心の分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開発要件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へ分け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35280" y="2060640"/>
            <a:ext cx="22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56000" y="378936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40360" y="1413000"/>
            <a:ext cx="3024360" cy="1439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開発要件として都度開発。ビジネスロジックとして、おそらく他に流用が聞かない部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40360" y="3213000"/>
            <a:ext cx="3024360" cy="2089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あらかじめフレームワーク的に用意されている機能か、繰り返し用いられてるロジックを抽出すると見えてくる。多分にシステムロジック的な内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64000" y="6093000"/>
            <a:ext cx="505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940360" y="5734080"/>
            <a:ext cx="3024360" cy="7038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OP (Aspect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Oriented Programinng</a:t>
            </a: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オープンな仕様策定プロジェク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仕様の標準化を目指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パイ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開発環境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opalliance.sourceforge.ne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現在作業中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月現在）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P Allianc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準拠を今後行ってい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他コンテナ・フレームワーク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等の相互利用が可能にな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現在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sar2-AP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P Allianc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ドラフトで幸いに相違がほとんどなかったため、早期実現が可能と思わ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リソー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2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マニュア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2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チュートリア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リン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ourceforge.j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-user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てなダイアリ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メリ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関心の分離を行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を分け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クラス・バイナリとしても分か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複数の「関心」から成る場合も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再利用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「横断的」であることから、再利用性そのもので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要件からシステム的機能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排出し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、シンプルな技術で実現さ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JO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27640" y="5589720"/>
            <a:ext cx="4537080" cy="6422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JO(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Plain Old Java Objec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lain Old=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平凡な」を意味するイディオ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 &amp; Ad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設定項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集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設定項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再利用可能な実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ユーザー実装もしくは、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ラグイン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org.seasar.framework.aop.AroundAdvic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インターフェイスを実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との接続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コンテナ管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roundAdvice#invoke(Joinpoint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メソッドの引数を通してアクセスする。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#proceed(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呼び出し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定義の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の子要素として定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ポーネント定義者が明示的に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設定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属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子要素に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もしくは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エレメン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属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カンマ区切りで、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たるコンポーネントのメソッド名を列挙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トークンごとに、正規表現を使用可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一つ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複数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出現順序が動作に影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1557360"/>
            <a:ext cx="8424720" cy="475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async" class="tutorial.org.seasar.console.AsyncCallAdvice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"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ointcu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[a-z]{3}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org.seasar.shellscript.S2ShellAdvice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'sample/org/seasar/shellscript/sample-config.xml'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ointcu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un, init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sync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4920" y="5646600"/>
            <a:ext cx="5329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initc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をカンマ区切りで複数トークン指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74920" y="6149880"/>
            <a:ext cx="5329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aspect&g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レメントボディにコンポーネント名で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4920" y="4249800"/>
            <a:ext cx="532944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aspect&g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レメントボディ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dvic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&g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レメントで定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3716280"/>
            <a:ext cx="5329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initc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に正規表現を利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登場人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機能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内部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mponentD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定義を保持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D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アスペクト定義を保持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round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おいて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実装するインターフェイ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GLi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バイトコードエンジニアリングライブラ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627280" y="3213000"/>
            <a:ext cx="6192720" cy="31687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Container - AopProx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659640" y="3645000"/>
            <a:ext cx="1946160" cy="25923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32000" y="3645000"/>
            <a:ext cx="3384720" cy="25923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関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＆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から成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oinpoin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集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oinpoin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コンポーネントメソッドをリフレクション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300720" y="4292640"/>
            <a:ext cx="2089080" cy="431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95640" y="4292640"/>
            <a:ext cx="2592360" cy="458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95640" y="5562720"/>
            <a:ext cx="2592360" cy="458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1367640" y="4688280"/>
            <a:ext cx="2592360" cy="5050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インターフェイ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00720" y="5589720"/>
            <a:ext cx="2089080" cy="431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788000" y="4508640"/>
            <a:ext cx="151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88000" y="5734080"/>
            <a:ext cx="151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4716360" y="4653000"/>
            <a:ext cx="1728720" cy="10080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140360" y="4724280"/>
            <a:ext cx="0" cy="865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48000" y="4941720"/>
            <a:ext cx="1440000" cy="432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3213000"/>
            <a:ext cx="1655640" cy="31687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16000" y="4508640"/>
            <a:ext cx="107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16000" y="5805360"/>
            <a:ext cx="107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round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58920" y="980640"/>
            <a:ext cx="575928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、実行時期で二分さ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#proceed(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呼ぶ前と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呼ぶ前は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読んだ後は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341440" y="2565360"/>
            <a:ext cx="6551640" cy="381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ABS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implement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AroundAdvic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Object invoke(Joinpoint joinpoint)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throw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Throw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Ooops, danger!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Object ret = joinpoint.proceed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kikikiki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re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74880" y="3645000"/>
            <a:ext cx="5834160" cy="433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Ooops, danger!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74880" y="4654440"/>
            <a:ext cx="5832720" cy="4320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kikikiki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63640" y="386064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63640" y="486900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4720" y="364500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6720" y="4653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Masataka Kurihara</cp:lastModifiedBy>
  <dcterms:modified xsi:type="dcterms:W3CDTF">2004-04-12T06:34:57Z</dcterms:modified>
  <cp:revision>41</cp:revision>
  <dc:subject/>
  <dc:title>スライド 1</dc:title>
</cp:coreProperties>
</file>