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1280" y="-1440"/>
            <a:ext cx="9072720" cy="6815160"/>
            <a:chOff x="71280" y="-1440"/>
            <a:chExt cx="9072720" cy="6815160"/>
          </a:xfrm>
        </p:grpSpPr>
        <p:sp>
          <p:nvSpPr>
            <p:cNvPr id="1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1280" y="-1440"/>
              <a:ext cx="291636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19280" y="836640"/>
              <a:ext cx="752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6B0D12D-391B-440C-AF5D-A76012951C94}" type="slidenum"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95280" y="1268280"/>
            <a:ext cx="8748720" cy="5545440"/>
            <a:chOff x="395280" y="1268280"/>
            <a:chExt cx="8748720" cy="55454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395280" y="1268280"/>
              <a:ext cx="36003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340000" y="2349360"/>
              <a:ext cx="680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からさわぎ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4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これからの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期待したいも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うえやん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Nazuna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ちゃん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どこに消えた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hat Is “Seasar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ープンソース（ライセンス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SL1.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純国産（メイン開発者はひがやすおさん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レームワ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呼び方は「しーさー」で沖縄の狛犬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?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こと。ひがさんは沖縄出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目指すも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解体と再構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美味しいところを手軽に利用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易しさ」 と「優しさ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’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歴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前～ひがさんオリジナ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,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ネクションプーリングなど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初期版～スターロジック用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mcat,iBAT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組み合わせて、外国為替オンライントレーディングシステムで使用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B+DB PRESS Vol.15,1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参照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オールインワン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lowlet,Rulet,Sqlet,Jetty,HSQLDB,GPSS,Eclip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などが整備され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4/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として華麗に進化！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従来の機能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で再構築し、よりしなやかに強靭になった</a:t>
            </a:r>
            <a:br>
              <a:rPr sz="2400"/>
            </a:b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歴史が今日、ここからはじまる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別名「ひがやすおと愉快な仲間たち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ミッ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盛り上げることを通じて、ソフトウェア開発の現場をより楽しく、より幸せにしていくこ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役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ひがさんのやる気を損ねない（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々周辺の雑務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SourceForg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メンテ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まめな宴会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知ってもらうためのマーケティン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担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現在はスターロジックのメンバーが中心ですが、特に何も決めていませ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皆さん、どんどん「自由に」何でも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やっちゃって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さぁ、からさわごう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合言葉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「もっと優しく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もっと易しく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からさわぎ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春の嵐スペシャ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4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小林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ここがセクシー！</a:t>
            </a:r>
            <a:br>
              <a:rPr sz="7200"/>
            </a:b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だと感じ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のコー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ug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の導入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阻んだひとこと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匿名さん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prin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い始め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私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6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と</a:t>
            </a:r>
            <a:br>
              <a:rPr sz="7200"/>
            </a:b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あの子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6000" spc="-1" strike="noStrike">
                <a:solidFill>
                  <a:srgbClr val="000000"/>
                </a:solidFill>
                <a:latin typeface="Arial"/>
              </a:rPr>
              <a:t>Spring etc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魅力徹底比較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3:49:45Z</dcterms:created>
  <dc:creator>Masataka Kurihara</dc:creator>
  <dc:description/>
  <dc:language>en-US</dc:language>
  <cp:lastModifiedBy>羽生　章洋</cp:lastModifiedBy>
  <dcterms:modified xsi:type="dcterms:W3CDTF">2004-04-11T10:38:46Z</dcterms:modified>
  <cp:revision>36</cp:revision>
  <dc:subject/>
  <dc:title>スライド 1</dc:title>
</cp:coreProperties>
</file>