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DE21-C5DF-4BE1-9F0E-5A3C73EF5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A6CC-5DEF-439A-B064-A6418449A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9D09-114C-45C0-B2D3-D90F3C3E7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019F-EFC8-4AF4-90F6-8FB5B2C8C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0747-9C6C-492E-B579-A89492016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F712-9819-4114-BCC3-3E3839A5B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AE1A-0AC4-43F1-858E-F3D5F47E6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0112-B851-42E2-8422-41F8E2E7A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E705-D340-4A90-A144-B198821DF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81F7-2D0D-4D32-A152-3425EFBB5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5E02-5DC7-4131-BBDB-76AE7A23B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5237-5995-41C0-8D69-83F6AE1B1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8D99C-640A-4A06-8B65-E53CCEC1FABA}" type="slidenum">
              <a:rPr b="0" lang="ja-JP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ライブラリ構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56000" y="981000"/>
            <a:ext cx="1512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ermp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067280" y="119700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43280" y="98100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niguru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40000" y="836640"/>
            <a:ext cx="3743280" cy="1152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627280" y="155736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TeraTerm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79640" y="472608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xssh.d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90920" y="49417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67280" y="47260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penSS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494172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780000" y="53737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067280" y="5157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zl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80000" y="57340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067280" y="5589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PuT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63640" y="4581360"/>
            <a:ext cx="5616720" cy="1584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97964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SSH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モジュー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0" y="141300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正規表現ライブラ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64000" y="4797360"/>
            <a:ext cx="10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暗号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64000" y="5157720"/>
            <a:ext cx="10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圧縮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64000" y="5589720"/>
            <a:ext cx="144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a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連携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56000" y="263700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pmac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067280" y="2852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643280" y="263700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niguru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340000" y="2492280"/>
            <a:ext cx="3743280" cy="1152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3213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マクロ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0" y="306864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正規表現ライブラ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12:48:04Z</dcterms:created>
  <dc:creator>yutaka</dc:creator>
  <dc:description/>
  <dc:language>en-US</dc:language>
  <cp:lastModifiedBy>yutaka</cp:lastModifiedBy>
  <dcterms:modified xsi:type="dcterms:W3CDTF">2008-02-17T15:38:23Z</dcterms:modified>
  <cp:revision>78</cp:revision>
  <dc:subject/>
  <dc:title>TeraTermモジュール構成</dc:title>
</cp:coreProperties>
</file>