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322-5618-4487-904E-6C323CE2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79D-7DCC-4375-BC62-169371D0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ACB-DC51-4C9A-BCAE-D8F728BD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35D-453B-46A4-9FB2-4C2B1816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B1E-3E35-407D-AC33-DE3D668B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533-DD24-4E99-B217-FBE7C302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4DF-FAA6-40DB-87A7-6C500641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D84-DAA3-4AE2-9F4E-9AB4C5BD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CE3-2EB1-49E2-9DA6-71D8121F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264-C057-4F97-8A74-AC1B63E2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166-1BE9-445C-8258-EF48D45C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4EB-5480-444B-97E1-91EE9114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A9F9-6B6A-4F72-A519-0C9A02950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3124080" cy="2057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20" y="34290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0" y="548640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8236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adToCubi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9580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Qua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4840" y="991440"/>
            <a:ext cx="266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7760" y="229320"/>
            <a:ext cx="182952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19840" y="5715720"/>
            <a:ext cx="2517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9800" y="4583880"/>
            <a:ext cx="2626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yline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320" y="4355280"/>
            <a:ext cx="2276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String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42840" y="6020640"/>
            <a:ext cx="3552120" cy="661680"/>
            <a:chOff x="1842840" y="6020640"/>
            <a:chExt cx="3552120" cy="661680"/>
          </a:xfrm>
        </p:grpSpPr>
        <p:sp>
          <p:nvSpPr>
            <p:cNvPr id="55" name=""/>
            <p:cNvSpPr/>
            <p:nvPr/>
          </p:nvSpPr>
          <p:spPr>
            <a:xfrm>
              <a:off x="1842840" y="6020640"/>
              <a:ext cx="24667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2680" y="6172920"/>
              <a:ext cx="22885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54160" y="6314040"/>
              <a:ext cx="244080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" name=""/>
          <p:cNvCxnSpPr>
            <a:stCxn id="51" idx="0"/>
            <a:endCxn id="52" idx="2"/>
          </p:cNvCxnSpPr>
          <p:nvPr/>
        </p:nvCxnSpPr>
        <p:spPr>
          <a:xfrm flipH="1" flipV="1" rot="5400000">
            <a:off x="5898600" y="5331600"/>
            <a:ext cx="763920" cy="504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52" idx="0"/>
            <a:endCxn id="60" idx="2"/>
          </p:cNvCxnSpPr>
          <p:nvPr/>
        </p:nvCxnSpPr>
        <p:spPr>
          <a:xfrm flipH="1" flipV="1" rot="5400000">
            <a:off x="6035400" y="4331160"/>
            <a:ext cx="500760" cy="5400"/>
          </a:xfrm>
          <a:prstGeom prst="bentConnector3">
            <a:avLst>
              <a:gd name="adj1" fmla="val 5007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9" idx="2"/>
          </p:cNvCxnSpPr>
          <p:nvPr/>
        </p:nvCxnSpPr>
        <p:spPr>
          <a:xfrm flipV="1" rot="16200000">
            <a:off x="6387120" y="741240"/>
            <a:ext cx="805320" cy="20422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50" idx="2"/>
          </p:cNvCxnSpPr>
          <p:nvPr/>
        </p:nvCxnSpPr>
        <p:spPr>
          <a:xfrm flipV="1" rot="16200000">
            <a:off x="5568480" y="791280"/>
            <a:ext cx="394200" cy="6480"/>
          </a:xfrm>
          <a:prstGeom prst="bentConnector3">
            <a:avLst>
              <a:gd name="adj1" fmla="val 5009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567120" y="6325200"/>
            <a:ext cx="2492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6" idx="0"/>
            <a:endCxn id="47" idx="2"/>
          </p:cNvCxnSpPr>
          <p:nvPr/>
        </p:nvCxnSpPr>
        <p:spPr>
          <a:xfrm flipH="1" flipV="1" rot="5400000">
            <a:off x="1913760" y="4489920"/>
            <a:ext cx="3366000" cy="72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5" name=""/>
          <p:cNvCxnSpPr>
            <a:stCxn id="47" idx="0"/>
            <a:endCxn id="49" idx="2"/>
          </p:cNvCxnSpPr>
          <p:nvPr/>
        </p:nvCxnSpPr>
        <p:spPr>
          <a:xfrm flipH="1" flipV="1" rot="5400000">
            <a:off x="4280400" y="676440"/>
            <a:ext cx="805320" cy="21718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6" name=""/>
          <p:cNvCxnSpPr>
            <a:stCxn id="63" idx="0"/>
            <a:endCxn id="48" idx="2"/>
          </p:cNvCxnSpPr>
          <p:nvPr/>
        </p:nvCxnSpPr>
        <p:spPr>
          <a:xfrm flipV="1" rot="16200000">
            <a:off x="6053040" y="4564800"/>
            <a:ext cx="3518280" cy="324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60" idx="0"/>
            <a:endCxn id="47" idx="2"/>
          </p:cNvCxnSpPr>
          <p:nvPr/>
        </p:nvCxnSpPr>
        <p:spPr>
          <a:xfrm flipV="1" rot="16200000">
            <a:off x="4625640" y="1778400"/>
            <a:ext cx="633960" cy="2691360"/>
          </a:xfrm>
          <a:prstGeom prst="bentConnector3">
            <a:avLst>
              <a:gd name="adj1" fmla="val 5005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3" idx="0"/>
            <a:endCxn id="47" idx="2"/>
          </p:cNvCxnSpPr>
          <p:nvPr/>
        </p:nvCxnSpPr>
        <p:spPr>
          <a:xfrm flipH="1" flipV="1" rot="5400000">
            <a:off x="1753200" y="2511360"/>
            <a:ext cx="1548360" cy="214020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5373360" y="34408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Lin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35Z</dcterms:modified>
  <cp:revision>26</cp:revision>
  <dc:subject/>
  <dc:title>Slide 1</dc:title>
</cp:coreProperties>
</file>