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2A89-8E1A-439D-AB69-8A149A94A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F2CA-6CBF-48EB-B769-1FCFE27E6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89C9-262E-4CD0-BB57-F78CD6789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31FE-3CFA-4238-9867-FCF9E0E024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C686-CBE9-45E7-B58F-5367E72307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C2B5-6446-45DD-A8FA-D27E57936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9E2F-BF7C-4738-8BED-4E5ACDFD6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F0AB-311D-433B-B435-B204193AF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98B3C-B83F-4A1B-8F8B-484D04ADB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F544-7686-42FF-A68E-F280AC8B3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0D1F-0053-47D8-B2CC-C2215D4F2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E94FF-2C4E-45BC-84C6-7FEFA34A4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EB30-E328-4D2E-9DB2-73AD31F27BD5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52120" y="0"/>
            <a:ext cx="37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Simon Fischer, Sami Kama, IT-API, </a:t>
            </a:r>
            <a:fld id="{0032C8E0-B3A1-45C0-9D91-121F965D54A2}" type="datetime">
              <a:rPr b="0" lang="en-US" sz="1400" spc="-1" strike="noStrike">
                <a:solidFill>
                  <a:srgbClr val="ccec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800" y="0"/>
            <a:ext cx="25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urier New"/>
              </a:rPr>
              <a:t>org.freehep.graphics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ff99"/>
                </a:solidFill>
                <a:latin typeface="Courier New"/>
              </a:rPr>
              <a:t>graphics2d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package of the FreeHEP library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mon Fischer (University of Dortmund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ami Kama (METU, Ankara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5700-E048-4773-9140-FDD240359F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4. PDFGraphics2D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0481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ImageDelay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7339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PaintDelay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51055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Tag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44197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Font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5" idx="3"/>
            <a:endCxn id="100" idx="1"/>
          </p:cNvCxnSpPr>
          <p:nvPr/>
        </p:nvCxnSpPr>
        <p:spPr>
          <a:xfrm flipV="1">
            <a:off x="3742920" y="3285720"/>
            <a:ext cx="1353240" cy="52416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06" name=""/>
          <p:cNvCxnSpPr>
            <a:stCxn id="107" idx="3"/>
            <a:endCxn id="101" idx="1"/>
          </p:cNvCxnSpPr>
          <p:nvPr/>
        </p:nvCxnSpPr>
        <p:spPr>
          <a:xfrm flipV="1">
            <a:off x="3742920" y="3971160"/>
            <a:ext cx="1353240" cy="14364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08" name=""/>
          <p:cNvCxnSpPr>
            <a:stCxn id="109" idx="3"/>
            <a:endCxn id="102" idx="1"/>
          </p:cNvCxnSpPr>
          <p:nvPr/>
        </p:nvCxnSpPr>
        <p:spPr>
          <a:xfrm>
            <a:off x="3742920" y="4724280"/>
            <a:ext cx="1353240" cy="61992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10" name=""/>
          <p:cNvCxnSpPr>
            <a:stCxn id="111" idx="3"/>
            <a:endCxn id="103" idx="1"/>
          </p:cNvCxnSpPr>
          <p:nvPr/>
        </p:nvCxnSpPr>
        <p:spPr>
          <a:xfrm>
            <a:off x="3742920" y="4419360"/>
            <a:ext cx="1353240" cy="23868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304920" y="1676520"/>
            <a:ext cx="358128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Graphics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1676520"/>
            <a:ext cx="358164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age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0"/>
            <a:endCxn id="112" idx="2"/>
          </p:cNvCxnSpPr>
          <p:nvPr/>
        </p:nvCxnSpPr>
        <p:spPr>
          <a:xfrm flipV="1">
            <a:off x="2095200" y="2161800"/>
            <a:ext cx="1080" cy="953280"/>
          </a:xfrm>
          <a:prstGeom prst="straightConnector1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5" idx="0"/>
            <a:endCxn id="113" idx="2"/>
          </p:cNvCxnSpPr>
          <p:nvPr/>
        </p:nvCxnSpPr>
        <p:spPr>
          <a:xfrm flipV="1">
            <a:off x="2095200" y="2161800"/>
            <a:ext cx="3963240" cy="953280"/>
          </a:xfrm>
          <a:prstGeom prst="straightConnector1">
            <a:avLst/>
          </a:prstGeom>
          <a:ln w="28440">
            <a:solidFill>
              <a:srgbClr val="ccccff"/>
            </a:solidFill>
            <a:prstDash val="lgDash"/>
            <a:miter/>
            <a:tailEnd len="med" type="triangle" w="med"/>
          </a:ln>
        </p:spPr>
      </p:cxnSp>
      <p:grpSp>
        <p:nvGrpSpPr>
          <p:cNvPr id="117" name=""/>
          <p:cNvGrpSpPr/>
          <p:nvPr/>
        </p:nvGrpSpPr>
        <p:grpSpPr>
          <a:xfrm>
            <a:off x="762120" y="3124080"/>
            <a:ext cx="2971800" cy="2057400"/>
            <a:chOff x="762120" y="3124080"/>
            <a:chExt cx="2971800" cy="2057400"/>
          </a:xfrm>
        </p:grpSpPr>
        <p:grpSp>
          <p:nvGrpSpPr>
            <p:cNvPr id="118" name=""/>
            <p:cNvGrpSpPr/>
            <p:nvPr/>
          </p:nvGrpSpPr>
          <p:grpSpPr>
            <a:xfrm>
              <a:off x="762120" y="3124080"/>
              <a:ext cx="2666880" cy="1699920"/>
              <a:chOff x="762120" y="3124080"/>
              <a:chExt cx="2666880" cy="1699920"/>
            </a:xfrm>
          </p:grpSpPr>
          <p:sp>
            <p:nvSpPr>
              <p:cNvPr id="115" name=""/>
              <p:cNvSpPr/>
              <p:nvPr/>
            </p:nvSpPr>
            <p:spPr>
              <a:xfrm>
                <a:off x="762120" y="3124080"/>
                <a:ext cx="2666880" cy="169992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DFGraphics2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rawImage(Image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aint(Pa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Font(Fo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rawString(TagString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2120" y="3581280"/>
                <a:ext cx="266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3429000" y="373392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4038480"/>
              <a:ext cx="304920" cy="15264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464832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29000" y="434340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7400" y="4876920"/>
              <a:ext cx="152280" cy="30456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62120" y="5486400"/>
            <a:ext cx="2743200" cy="10083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Wri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lements PathConstr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0"/>
            <a:endCxn id="120" idx="2"/>
          </p:cNvCxnSpPr>
          <p:nvPr/>
        </p:nvCxnSpPr>
        <p:spPr>
          <a:xfrm flipV="1">
            <a:off x="2133360" y="5190840"/>
            <a:ext cx="1080" cy="286560"/>
          </a:xfrm>
          <a:prstGeom prst="bentConnector2">
            <a:avLst/>
          </a:prstGeom>
          <a:ln w="28440">
            <a:solidFill>
              <a:srgbClr val="cccc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5080-B48F-4B87-8815-37400B3FA1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1 Font Embedding (1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mbed shapes of glyphs plus metric information in PDF/PS fi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ype3 fonts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large fil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ype1 fonts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ore difficult (binary, encrypted) representati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ompact format (filesize approx. factor 5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hints for better display/rendering of font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4ACEA-2B39-49CA-8077-FB2C26B504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2 Font Embedding (2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428720" y="2133720"/>
            <a:ext cx="4563000" cy="1008720"/>
            <a:chOff x="4428720" y="2133720"/>
            <a:chExt cx="4563000" cy="1008720"/>
          </a:xfrm>
        </p:grpSpPr>
        <p:cxnSp>
          <p:nvCxnSpPr>
            <p:cNvPr id="127" name=""/>
            <p:cNvCxnSpPr>
              <a:stCxn id="128" idx="3"/>
              <a:endCxn id="129" idx="1"/>
            </p:cNvCxnSpPr>
            <p:nvPr/>
          </p:nvCxnSpPr>
          <p:spPr>
            <a:xfrm flipV="1">
              <a:off x="4428720" y="2483640"/>
              <a:ext cx="600840" cy="1044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29" name=""/>
            <p:cNvSpPr/>
            <p:nvPr/>
          </p:nvSpPr>
          <p:spPr>
            <a:xfrm>
              <a:off x="5029200" y="2133720"/>
              <a:ext cx="3962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aracter cod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2, 101, 108, 108, 111, 32, 103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04200" y="2133720"/>
            <a:ext cx="4115520" cy="703800"/>
            <a:chOff x="304200" y="2133720"/>
            <a:chExt cx="4115520" cy="703800"/>
          </a:xfrm>
        </p:grpSpPr>
        <p:sp>
          <p:nvSpPr>
            <p:cNvPr id="128" name=""/>
            <p:cNvSpPr/>
            <p:nvPr/>
          </p:nvSpPr>
          <p:spPr>
            <a:xfrm>
              <a:off x="2743200" y="2133720"/>
              <a:ext cx="167652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xt showing op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32" idx="3"/>
              <a:endCxn id="128" idx="1"/>
            </p:cNvCxnSpPr>
            <p:nvPr/>
          </p:nvCxnSpPr>
          <p:spPr>
            <a:xfrm>
              <a:off x="1971360" y="2484000"/>
              <a:ext cx="762840" cy="1044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04200" y="2133720"/>
              <a:ext cx="166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tring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Hello World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743200" y="3429000"/>
            <a:ext cx="3876480" cy="703800"/>
            <a:chOff x="2743200" y="3429000"/>
            <a:chExt cx="3876480" cy="703800"/>
          </a:xfrm>
        </p:grpSpPr>
        <p:cxnSp>
          <p:nvCxnSpPr>
            <p:cNvPr id="134" name=""/>
            <p:cNvCxnSpPr>
              <a:stCxn id="135" idx="1"/>
              <a:endCxn id="136" idx="3"/>
            </p:cNvCxnSpPr>
            <p:nvPr/>
          </p:nvCxnSpPr>
          <p:spPr>
            <a:xfrm flipH="1" flipV="1">
              <a:off x="6082560" y="3779640"/>
              <a:ext cx="537480" cy="1008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36" name=""/>
            <p:cNvSpPr/>
            <p:nvPr/>
          </p:nvSpPr>
          <p:spPr>
            <a:xfrm>
              <a:off x="2743200" y="3429000"/>
              <a:ext cx="3340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aracter nam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H, /e, /l, /l, /o, /space, /W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629400" y="2835000"/>
            <a:ext cx="1905120" cy="1297800"/>
            <a:chOff x="6629400" y="2835000"/>
            <a:chExt cx="1905120" cy="1297800"/>
          </a:xfrm>
        </p:grpSpPr>
        <p:sp>
          <p:nvSpPr>
            <p:cNvPr id="135" name=""/>
            <p:cNvSpPr/>
            <p:nvPr/>
          </p:nvSpPr>
          <p:spPr>
            <a:xfrm>
              <a:off x="6629400" y="3429000"/>
              <a:ext cx="190512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coding-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29" idx="2"/>
              <a:endCxn id="135" idx="0"/>
            </p:cNvCxnSpPr>
            <p:nvPr/>
          </p:nvCxnSpPr>
          <p:spPr>
            <a:xfrm>
              <a:off x="7010280" y="2835000"/>
              <a:ext cx="572400" cy="58500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139" name=""/>
          <p:cNvGrpSpPr/>
          <p:nvPr/>
        </p:nvGrpSpPr>
        <p:grpSpPr>
          <a:xfrm>
            <a:off x="533520" y="3429000"/>
            <a:ext cx="2209320" cy="703800"/>
            <a:chOff x="533520" y="3429000"/>
            <a:chExt cx="2209320" cy="703800"/>
          </a:xfrm>
        </p:grpSpPr>
        <p:sp>
          <p:nvSpPr>
            <p:cNvPr id="140" name=""/>
            <p:cNvSpPr/>
            <p:nvPr/>
          </p:nvSpPr>
          <p:spPr>
            <a:xfrm>
              <a:off x="533520" y="3429000"/>
              <a:ext cx="167616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lyph-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6" idx="1"/>
              <a:endCxn id="140" idx="3"/>
            </p:cNvCxnSpPr>
            <p:nvPr/>
          </p:nvCxnSpPr>
          <p:spPr>
            <a:xfrm flipH="1">
              <a:off x="2219040" y="3780000"/>
              <a:ext cx="524160" cy="1008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142" name=""/>
          <p:cNvGrpSpPr/>
          <p:nvPr/>
        </p:nvGrpSpPr>
        <p:grpSpPr>
          <a:xfrm>
            <a:off x="228600" y="4159080"/>
            <a:ext cx="2286000" cy="1421640"/>
            <a:chOff x="228600" y="4159080"/>
            <a:chExt cx="2286000" cy="1421640"/>
          </a:xfrm>
        </p:grpSpPr>
        <p:sp>
          <p:nvSpPr>
            <p:cNvPr id="143" name=""/>
            <p:cNvSpPr/>
            <p:nvPr/>
          </p:nvSpPr>
          <p:spPr>
            <a:xfrm>
              <a:off x="228600" y="487692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glyph descriptions (shapes/path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4" name=""/>
            <p:cNvCxnSpPr>
              <a:stCxn id="140" idx="2"/>
              <a:endCxn id="143" idx="0"/>
            </p:cNvCxnSpPr>
            <p:nvPr/>
          </p:nvCxnSpPr>
          <p:spPr>
            <a:xfrm>
              <a:off x="1371240" y="4159080"/>
              <a:ext cx="1080" cy="71856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145" name=""/>
          <p:cNvSpPr txBox="1"/>
          <p:nvPr/>
        </p:nvSpPr>
        <p:spPr>
          <a:xfrm>
            <a:off x="2590920" y="4800600"/>
            <a:ext cx="5257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ffffff"/>
                  </a:solidFill>
                  <a:miter/>
                </a:ln>
                <a:noFill/>
                <a:latin typeface="Times New Roman"/>
              </a:rPr>
              <a:t>Hello W</a:t>
            </a:r>
            <a:endParaRPr b="1" lang="en-US" sz="6000" spc="1" strike="noStrike">
              <a:ln w="25560">
                <a:solidFill>
                  <a:srgbClr val="ffffff"/>
                </a:solidFill>
                <a:miter/>
              </a:ln>
              <a:noFill/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9C03-CD34-4A97-8E1B-35990A1DD6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3 Generation of CharTabl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1371600"/>
            <a:ext cx="2438640" cy="11289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arTable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N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Encoding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Unicod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426320" y="4257000"/>
            <a:ext cx="3060000" cy="1587240"/>
            <a:chOff x="1426320" y="4257000"/>
            <a:chExt cx="3060000" cy="1587240"/>
          </a:xfrm>
        </p:grpSpPr>
        <p:sp>
          <p:nvSpPr>
            <p:cNvPr id="149" name=""/>
            <p:cNvSpPr/>
            <p:nvPr/>
          </p:nvSpPr>
          <p:spPr>
            <a:xfrm>
              <a:off x="1426320" y="4257000"/>
              <a:ext cx="2263320" cy="1166760"/>
            </a:xfrm>
            <a:prstGeom prst="ellipse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re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51" idx="1"/>
              <a:endCxn id="149" idx="4"/>
            </p:cNvCxnSpPr>
            <p:nvPr/>
          </p:nvCxnSpPr>
          <p:spPr>
            <a:xfrm flipV="1" rot="10800000">
              <a:off x="2556720" y="5264640"/>
              <a:ext cx="1929600" cy="158040"/>
            </a:xfrm>
            <a:prstGeom prst="curvedConnector5">
              <a:avLst>
                <a:gd name="adj1" fmla="val 24183"/>
                <a:gd name="adj2" fmla="val 183789"/>
                <a:gd name="adj3" fmla="val 24183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52" name=""/>
          <p:cNvGrpSpPr/>
          <p:nvPr/>
        </p:nvGrpSpPr>
        <p:grpSpPr>
          <a:xfrm>
            <a:off x="685800" y="2530080"/>
            <a:ext cx="4114800" cy="1727640"/>
            <a:chOff x="685800" y="2530080"/>
            <a:chExt cx="4114800" cy="1727640"/>
          </a:xfrm>
        </p:grpSpPr>
        <p:cxnSp>
          <p:nvCxnSpPr>
            <p:cNvPr id="153" name=""/>
            <p:cNvCxnSpPr>
              <a:stCxn id="154" idx="0"/>
              <a:endCxn id="147" idx="2"/>
            </p:cNvCxnSpPr>
            <p:nvPr/>
          </p:nvCxnSpPr>
          <p:spPr>
            <a:xfrm flipH="1" flipV="1" rot="5400000">
              <a:off x="2907720" y="1069560"/>
              <a:ext cx="432720" cy="335340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68580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OLa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49" idx="0"/>
              <a:endCxn id="154" idx="2"/>
            </p:cNvCxnSpPr>
            <p:nvPr/>
          </p:nvCxnSpPr>
          <p:spPr>
            <a:xfrm flipV="1" rot="16200000">
              <a:off x="1572120" y="3272040"/>
              <a:ext cx="861120" cy="1110240"/>
            </a:xfrm>
            <a:prstGeom prst="curvedConnector5">
              <a:avLst>
                <a:gd name="adj1" fmla="val 49979"/>
                <a:gd name="adj2" fmla="val 49983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56" name=""/>
          <p:cNvGrpSpPr/>
          <p:nvPr/>
        </p:nvGrpSpPr>
        <p:grpSpPr>
          <a:xfrm>
            <a:off x="2362320" y="2530080"/>
            <a:ext cx="2438280" cy="1727640"/>
            <a:chOff x="2362320" y="2530080"/>
            <a:chExt cx="2438280" cy="1727640"/>
          </a:xfrm>
        </p:grpSpPr>
        <p:cxnSp>
          <p:nvCxnSpPr>
            <p:cNvPr id="157" name=""/>
            <p:cNvCxnSpPr>
              <a:stCxn id="158" idx="0"/>
              <a:endCxn id="147" idx="2"/>
            </p:cNvCxnSpPr>
            <p:nvPr/>
          </p:nvCxnSpPr>
          <p:spPr>
            <a:xfrm flipH="1" flipV="1" rot="5400000">
              <a:off x="3745800" y="1907640"/>
              <a:ext cx="432720" cy="167724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58" name=""/>
            <p:cNvSpPr/>
            <p:nvPr/>
          </p:nvSpPr>
          <p:spPr>
            <a:xfrm>
              <a:off x="236232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La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" name=""/>
            <p:cNvCxnSpPr>
              <a:stCxn id="149" idx="0"/>
              <a:endCxn id="158" idx="2"/>
            </p:cNvCxnSpPr>
            <p:nvPr/>
          </p:nvCxnSpPr>
          <p:spPr>
            <a:xfrm flipH="1" flipV="1" rot="5400000">
              <a:off x="2410200" y="3543840"/>
              <a:ext cx="861120" cy="567360"/>
            </a:xfrm>
            <a:prstGeom prst="curvedConnector5">
              <a:avLst>
                <a:gd name="adj1" fmla="val 49979"/>
                <a:gd name="adj2" fmla="val 49968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0" name=""/>
          <p:cNvGrpSpPr/>
          <p:nvPr/>
        </p:nvGrpSpPr>
        <p:grpSpPr>
          <a:xfrm>
            <a:off x="2557080" y="2530080"/>
            <a:ext cx="3005640" cy="1727640"/>
            <a:chOff x="2557080" y="2530080"/>
            <a:chExt cx="3005640" cy="1727640"/>
          </a:xfrm>
        </p:grpSpPr>
        <p:cxnSp>
          <p:nvCxnSpPr>
            <p:cNvPr id="161" name=""/>
            <p:cNvCxnSpPr>
              <a:stCxn id="162" idx="0"/>
              <a:endCxn id="147" idx="2"/>
            </p:cNvCxnSpPr>
            <p:nvPr/>
          </p:nvCxnSpPr>
          <p:spPr>
            <a:xfrm flipV="1">
              <a:off x="4800240" y="2530080"/>
              <a:ext cx="1080" cy="432720"/>
            </a:xfrm>
            <a:prstGeom prst="bentConnector2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4038480" y="2971800"/>
              <a:ext cx="152424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49" idx="0"/>
              <a:endCxn id="162" idx="2"/>
            </p:cNvCxnSpPr>
            <p:nvPr/>
          </p:nvCxnSpPr>
          <p:spPr>
            <a:xfrm flipH="1" flipV="1" rot="5400000">
              <a:off x="3248280" y="2705400"/>
              <a:ext cx="861120" cy="2243880"/>
            </a:xfrm>
            <a:prstGeom prst="curvedConnector5">
              <a:avLst>
                <a:gd name="adj1" fmla="val 49979"/>
                <a:gd name="adj2" fmla="val 50000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4" name=""/>
          <p:cNvGrpSpPr/>
          <p:nvPr/>
        </p:nvGrpSpPr>
        <p:grpSpPr>
          <a:xfrm>
            <a:off x="2557440" y="2530080"/>
            <a:ext cx="6357960" cy="1727640"/>
            <a:chOff x="2557440" y="2530080"/>
            <a:chExt cx="6357960" cy="1727640"/>
          </a:xfrm>
        </p:grpSpPr>
        <p:cxnSp>
          <p:nvCxnSpPr>
            <p:cNvPr id="165" name=""/>
            <p:cNvCxnSpPr>
              <a:stCxn id="166" idx="0"/>
              <a:endCxn id="147" idx="2"/>
            </p:cNvCxnSpPr>
            <p:nvPr/>
          </p:nvCxnSpPr>
          <p:spPr>
            <a:xfrm flipV="1" rot="16200000">
              <a:off x="6260400" y="1069560"/>
              <a:ext cx="432720" cy="335340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739152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49" idx="0"/>
              <a:endCxn id="166" idx="2"/>
            </p:cNvCxnSpPr>
            <p:nvPr/>
          </p:nvCxnSpPr>
          <p:spPr>
            <a:xfrm flipH="1" flipV="1" rot="5400000">
              <a:off x="4924800" y="1029240"/>
              <a:ext cx="861120" cy="5596560"/>
            </a:xfrm>
            <a:prstGeom prst="curvedConnector5">
              <a:avLst>
                <a:gd name="adj1" fmla="val 49979"/>
                <a:gd name="adj2" fmla="val 49996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8" name=""/>
          <p:cNvGrpSpPr/>
          <p:nvPr/>
        </p:nvGrpSpPr>
        <p:grpSpPr>
          <a:xfrm>
            <a:off x="2557440" y="2530080"/>
            <a:ext cx="4681440" cy="1727640"/>
            <a:chOff x="2557440" y="2530080"/>
            <a:chExt cx="4681440" cy="1727640"/>
          </a:xfrm>
        </p:grpSpPr>
        <p:cxnSp>
          <p:nvCxnSpPr>
            <p:cNvPr id="169" name=""/>
            <p:cNvCxnSpPr>
              <a:stCxn id="170" idx="0"/>
              <a:endCxn id="147" idx="2"/>
            </p:cNvCxnSpPr>
            <p:nvPr/>
          </p:nvCxnSpPr>
          <p:spPr>
            <a:xfrm flipV="1" rot="16200000">
              <a:off x="5422320" y="1907640"/>
              <a:ext cx="432720" cy="167724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70" name=""/>
            <p:cNvSpPr/>
            <p:nvPr/>
          </p:nvSpPr>
          <p:spPr>
            <a:xfrm>
              <a:off x="571500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ngba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49" idx="0"/>
              <a:endCxn id="170" idx="2"/>
            </p:cNvCxnSpPr>
            <p:nvPr/>
          </p:nvCxnSpPr>
          <p:spPr>
            <a:xfrm flipH="1" flipV="1" rot="5400000">
              <a:off x="4086720" y="1867320"/>
              <a:ext cx="861120" cy="3920400"/>
            </a:xfrm>
            <a:prstGeom prst="curvedConnector5">
              <a:avLst>
                <a:gd name="adj1" fmla="val 49979"/>
                <a:gd name="adj2" fmla="val 49995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72" name=""/>
          <p:cNvGrpSpPr/>
          <p:nvPr/>
        </p:nvGrpSpPr>
        <p:grpSpPr>
          <a:xfrm>
            <a:off x="4495680" y="4031640"/>
            <a:ext cx="4114800" cy="2597400"/>
            <a:chOff x="4495680" y="4031640"/>
            <a:chExt cx="4114800" cy="2597400"/>
          </a:xfrm>
        </p:grpSpPr>
        <p:sp>
          <p:nvSpPr>
            <p:cNvPr id="173" name=""/>
            <p:cNvSpPr/>
            <p:nvPr/>
          </p:nvSpPr>
          <p:spPr>
            <a:xfrm>
              <a:off x="4648320" y="4190760"/>
              <a:ext cx="3962160" cy="243828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4114800"/>
              <a:ext cx="3962520" cy="243792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95680" y="4031640"/>
              <a:ext cx="3962520" cy="246384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##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ST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MAC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WIN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PDF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I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Æ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5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Á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acute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Â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circumflex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Ä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dieresi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À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grav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Å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10D8-2DAC-4981-94FD-E474289C53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295280"/>
            <a:ext cx="2133720" cy="9144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819520" y="1371600"/>
            <a:ext cx="4343400" cy="762120"/>
            <a:chOff x="2819520" y="1371600"/>
            <a:chExt cx="4343400" cy="762120"/>
          </a:xfrm>
        </p:grpSpPr>
        <p:cxnSp>
          <p:nvCxnSpPr>
            <p:cNvPr id="177" name=""/>
            <p:cNvCxnSpPr>
              <a:stCxn id="175" idx="6"/>
              <a:endCxn id="178" idx="2"/>
            </p:cNvCxnSpPr>
            <p:nvPr/>
          </p:nvCxnSpPr>
          <p:spPr>
            <a:xfrm>
              <a:off x="2819520" y="1752480"/>
              <a:ext cx="19821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78" name=""/>
            <p:cNvSpPr/>
            <p:nvPr/>
          </p:nvSpPr>
          <p:spPr>
            <a:xfrm>
              <a:off x="4800960" y="1371600"/>
              <a:ext cx="2361960" cy="7621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14400" y="2133720"/>
            <a:ext cx="7086600" cy="1447560"/>
            <a:chOff x="914400" y="2133720"/>
            <a:chExt cx="7086600" cy="1447560"/>
          </a:xfrm>
        </p:grpSpPr>
        <p:sp>
          <p:nvSpPr>
            <p:cNvPr id="180" name=""/>
            <p:cNvSpPr/>
            <p:nvPr/>
          </p:nvSpPr>
          <p:spPr>
            <a:xfrm>
              <a:off x="3429000" y="2971800"/>
              <a:ext cx="1752480" cy="5335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racter 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14400" y="2971800"/>
              <a:ext cx="1752480" cy="5335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code Charac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81480" y="3048120"/>
              <a:ext cx="1919520" cy="5331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coding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" name=""/>
            <p:cNvCxnSpPr>
              <a:stCxn id="178" idx="4"/>
              <a:endCxn id="180" idx="0"/>
            </p:cNvCxnSpPr>
            <p:nvPr/>
          </p:nvCxnSpPr>
          <p:spPr>
            <a:xfrm flipH="1">
              <a:off x="4304520" y="2133720"/>
              <a:ext cx="167724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84" name=""/>
            <p:cNvCxnSpPr>
              <a:stCxn id="178" idx="4"/>
              <a:endCxn id="182" idx="0"/>
            </p:cNvCxnSpPr>
            <p:nvPr/>
          </p:nvCxnSpPr>
          <p:spPr>
            <a:xfrm>
              <a:off x="5981400" y="2133720"/>
              <a:ext cx="1060920" cy="9151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85" name=""/>
            <p:cNvCxnSpPr>
              <a:stCxn id="178" idx="4"/>
              <a:endCxn id="181" idx="0"/>
            </p:cNvCxnSpPr>
            <p:nvPr/>
          </p:nvCxnSpPr>
          <p:spPr>
            <a:xfrm flipH="1">
              <a:off x="1790280" y="2133720"/>
              <a:ext cx="419184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</p:grpSp>
      <p:grpSp>
        <p:nvGrpSpPr>
          <p:cNvPr id="186" name=""/>
          <p:cNvGrpSpPr/>
          <p:nvPr/>
        </p:nvGrpSpPr>
        <p:grpSpPr>
          <a:xfrm>
            <a:off x="1523880" y="3505320"/>
            <a:ext cx="1828800" cy="1447560"/>
            <a:chOff x="1523880" y="3505320"/>
            <a:chExt cx="1828800" cy="1447560"/>
          </a:xfrm>
        </p:grpSpPr>
        <p:cxnSp>
          <p:nvCxnSpPr>
            <p:cNvPr id="187" name=""/>
            <p:cNvCxnSpPr>
              <a:stCxn id="181" idx="4"/>
              <a:endCxn id="188" idx="0"/>
            </p:cNvCxnSpPr>
            <p:nvPr/>
          </p:nvCxnSpPr>
          <p:spPr>
            <a:xfrm>
              <a:off x="1866600" y="3505320"/>
              <a:ext cx="572040" cy="9151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1523880" y="4419720"/>
              <a:ext cx="1828800" cy="5331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yphs from 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352320" y="3504960"/>
            <a:ext cx="3772080" cy="1752840"/>
            <a:chOff x="3352320" y="3504960"/>
            <a:chExt cx="3772080" cy="1752840"/>
          </a:xfrm>
        </p:grpSpPr>
        <p:cxnSp>
          <p:nvCxnSpPr>
            <p:cNvPr id="190" name=""/>
            <p:cNvCxnSpPr>
              <a:stCxn id="188" idx="6"/>
              <a:endCxn id="191" idx="2"/>
            </p:cNvCxnSpPr>
            <p:nvPr/>
          </p:nvCxnSpPr>
          <p:spPr>
            <a:xfrm>
              <a:off x="3352320" y="4686480"/>
              <a:ext cx="1067400" cy="576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92" name=""/>
            <p:cNvCxnSpPr>
              <a:stCxn id="182" idx="4"/>
              <a:endCxn id="191" idx="5"/>
            </p:cNvCxnSpPr>
            <p:nvPr/>
          </p:nvCxnSpPr>
          <p:spPr>
            <a:xfrm flipH="1">
              <a:off x="6247440" y="3580920"/>
              <a:ext cx="877320" cy="97236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93" name=""/>
            <p:cNvCxnSpPr>
              <a:stCxn id="180" idx="4"/>
              <a:endCxn id="191" idx="0"/>
            </p:cNvCxnSpPr>
            <p:nvPr/>
          </p:nvCxnSpPr>
          <p:spPr>
            <a:xfrm>
              <a:off x="4381560" y="3504960"/>
              <a:ext cx="1048320" cy="5338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91" name=""/>
            <p:cNvSpPr/>
            <p:nvPr/>
          </p:nvSpPr>
          <p:spPr>
            <a:xfrm>
              <a:off x="4419360" y="4038480"/>
              <a:ext cx="1828800" cy="1219320"/>
            </a:xfrm>
            <a:prstGeom prst="cube">
              <a:avLst>
                <a:gd name="adj" fmla="val 1575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mbedde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095520" y="4419720"/>
            <a:ext cx="2819520" cy="2286000"/>
            <a:chOff x="6095520" y="4419720"/>
            <a:chExt cx="2819520" cy="228600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7162560" y="5105520"/>
              <a:ext cx="17524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5400000">
              <a:off x="6971400" y="3543480"/>
              <a:ext cx="609840" cy="23619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215" stAng="10800000" swAng="5400000"/>
                  <a:lnTo>
                    <a:pt x="13668" y="3945"/>
                  </a:lnTo>
                  <a:lnTo>
                    <a:pt x="13668" y="0"/>
                  </a:lnTo>
                  <a:lnTo>
                    <a:pt x="21600" y="6079"/>
                  </a:lnTo>
                  <a:lnTo>
                    <a:pt x="13668" y="12158"/>
                  </a:lnTo>
                  <a:lnTo>
                    <a:pt x="13668" y="8213"/>
                  </a:lnTo>
                  <a:lnTo>
                    <a:pt x="12427" y="8213"/>
                  </a:lnTo>
                  <a:arcTo wR="8159" hR="3947" stAng="16200000" swAng="-5400000"/>
                  <a:lnTo>
                    <a:pt x="426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6525e"/>
                </a:gs>
                <a:gs pos="50000">
                  <a:srgbClr val="30b2cc"/>
                </a:gs>
                <a:gs pos="100000">
                  <a:srgbClr val="16525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743200" y="2819520"/>
            <a:ext cx="3124080" cy="1447560"/>
            <a:chOff x="2743200" y="2819520"/>
            <a:chExt cx="3124080" cy="1447560"/>
          </a:xfrm>
        </p:grpSpPr>
        <p:sp>
          <p:nvSpPr>
            <p:cNvPr id="198" name=""/>
            <p:cNvSpPr/>
            <p:nvPr/>
          </p:nvSpPr>
          <p:spPr>
            <a:xfrm>
              <a:off x="5333760" y="28195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200" y="39625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467480" y="1523880"/>
            <a:ext cx="990720" cy="685800"/>
          </a:xfrm>
          <a:prstGeom prst="foldedCorner">
            <a:avLst>
              <a:gd name="adj" fmla="val 2804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DFLa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4 Font Enbedding (3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DA47-B730-44BF-AE88-04E0E34E58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990720" y="2876400"/>
            <a:ext cx="4267080" cy="1390680"/>
            <a:chOff x="990720" y="2876400"/>
            <a:chExt cx="4267080" cy="1390680"/>
          </a:xfrm>
        </p:grpSpPr>
        <p:sp>
          <p:nvSpPr>
            <p:cNvPr id="203" name=""/>
            <p:cNvSpPr/>
            <p:nvPr/>
          </p:nvSpPr>
          <p:spPr>
            <a:xfrm>
              <a:off x="3809880" y="3276720"/>
              <a:ext cx="1447920" cy="9903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90720" y="3581280"/>
              <a:ext cx="167616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206" idx="4"/>
              <a:endCxn id="204" idx="0"/>
            </p:cNvCxnSpPr>
            <p:nvPr/>
          </p:nvCxnSpPr>
          <p:spPr>
            <a:xfrm>
              <a:off x="1828440" y="2876400"/>
              <a:ext cx="1080" cy="69624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4" idx="3"/>
              <a:endCxn id="203" idx="1"/>
            </p:cNvCxnSpPr>
            <p:nvPr/>
          </p:nvCxnSpPr>
          <p:spPr>
            <a:xfrm flipV="1">
              <a:off x="2676600" y="3771720"/>
              <a:ext cx="1124640" cy="1800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208" name=""/>
          <p:cNvGrpSpPr/>
          <p:nvPr/>
        </p:nvGrpSpPr>
        <p:grpSpPr>
          <a:xfrm>
            <a:off x="1295280" y="1969920"/>
            <a:ext cx="4029120" cy="1166760"/>
            <a:chOff x="1295280" y="1969920"/>
            <a:chExt cx="4029120" cy="1166760"/>
          </a:xfrm>
        </p:grpSpPr>
        <p:sp>
          <p:nvSpPr>
            <p:cNvPr id="209" name=""/>
            <p:cNvSpPr/>
            <p:nvPr/>
          </p:nvSpPr>
          <p:spPr>
            <a:xfrm>
              <a:off x="3886200" y="2286000"/>
              <a:ext cx="1438200" cy="53352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5280" y="1969920"/>
              <a:ext cx="1067040" cy="1166760"/>
            </a:xfrm>
            <a:prstGeom prst="ellipse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206" idx="6"/>
              <a:endCxn id="209" idx="1"/>
            </p:cNvCxnSpPr>
            <p:nvPr/>
          </p:nvCxnSpPr>
          <p:spPr>
            <a:xfrm>
              <a:off x="2371320" y="2552400"/>
              <a:ext cx="1505880" cy="108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5 Font Embedding (4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08400" y="2876040"/>
            <a:ext cx="4716000" cy="3296160"/>
            <a:chOff x="608400" y="2876040"/>
            <a:chExt cx="4716000" cy="3296160"/>
          </a:xfrm>
        </p:grpSpPr>
        <p:cxnSp>
          <p:nvCxnSpPr>
            <p:cNvPr id="213" name=""/>
            <p:cNvCxnSpPr>
              <a:stCxn id="204" idx="2"/>
              <a:endCxn id="214" idx="0"/>
            </p:cNvCxnSpPr>
            <p:nvPr/>
          </p:nvCxnSpPr>
          <p:spPr>
            <a:xfrm>
              <a:off x="1828440" y="4006800"/>
              <a:ext cx="1080" cy="139464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grpSp>
          <p:nvGrpSpPr>
            <p:cNvPr id="215" name=""/>
            <p:cNvGrpSpPr/>
            <p:nvPr/>
          </p:nvGrpSpPr>
          <p:grpSpPr>
            <a:xfrm>
              <a:off x="608400" y="2876040"/>
              <a:ext cx="4716000" cy="3296160"/>
              <a:chOff x="608400" y="2876040"/>
              <a:chExt cx="4716000" cy="3296160"/>
            </a:xfrm>
          </p:grpSpPr>
          <p:sp>
            <p:nvSpPr>
              <p:cNvPr id="216" name=""/>
              <p:cNvSpPr/>
              <p:nvPr/>
            </p:nvSpPr>
            <p:spPr>
              <a:xfrm>
                <a:off x="3809880" y="5029200"/>
                <a:ext cx="1514520" cy="1143000"/>
              </a:xfrm>
              <a:prstGeom prst="bracePair">
                <a:avLst>
                  <a:gd name="adj" fmla="val 8333"/>
                </a:avLst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90720" y="5410080"/>
                <a:ext cx="1676160" cy="7038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lyph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e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7" name=""/>
              <p:cNvCxnSpPr>
                <a:stCxn id="218" idx="0"/>
                <a:endCxn id="214" idx="0"/>
              </p:cNvCxnSpPr>
              <p:nvPr/>
            </p:nvCxnSpPr>
            <p:spPr>
              <a:xfrm flipH="1" rot="16200000">
                <a:off x="579240" y="4151880"/>
                <a:ext cx="1278720" cy="1220040"/>
              </a:xfrm>
              <a:prstGeom prst="bentConnector3">
                <a:avLst>
                  <a:gd name="adj1" fmla="val 50042"/>
                </a:avLst>
              </a:prstGeom>
              <a:ln w="19080">
                <a:solidFill>
                  <a:srgbClr val="ccccff"/>
                </a:solidFill>
                <a:miter/>
                <a:tailEnd len="med" type="triangle" w="med"/>
              </a:ln>
            </p:spPr>
          </p:cxnSp>
          <p:cxnSp>
            <p:nvCxnSpPr>
              <p:cNvPr id="219" name=""/>
              <p:cNvCxnSpPr>
                <a:stCxn id="218" idx="0"/>
                <a:endCxn id="206" idx="4"/>
              </p:cNvCxnSpPr>
              <p:nvPr/>
            </p:nvCxnSpPr>
            <p:spPr>
              <a:xfrm flipH="1" flipV="1" rot="5400000">
                <a:off x="832680" y="2652120"/>
                <a:ext cx="772560" cy="1220040"/>
              </a:xfrm>
              <a:prstGeom prst="bentConnector3">
                <a:avLst>
                  <a:gd name="adj1" fmla="val 49976"/>
                </a:avLst>
              </a:prstGeom>
              <a:ln w="19080">
                <a:solidFill>
                  <a:srgbClr val="ccccff"/>
                </a:solidFill>
                <a:miter/>
              </a:ln>
            </p:spPr>
          </p:cxnSp>
          <p:cxnSp>
            <p:nvCxnSpPr>
              <p:cNvPr id="220" name=""/>
              <p:cNvCxnSpPr>
                <a:stCxn id="214" idx="3"/>
                <a:endCxn id="216" idx="1"/>
              </p:cNvCxnSpPr>
              <p:nvPr/>
            </p:nvCxnSpPr>
            <p:spPr>
              <a:xfrm flipV="1">
                <a:off x="2676600" y="5600520"/>
                <a:ext cx="1124640" cy="18000"/>
              </a:xfrm>
              <a:prstGeom prst="straightConnector1">
                <a:avLst/>
              </a:prstGeom>
              <a:ln w="19080">
                <a:solidFill>
                  <a:srgbClr val="ccccff"/>
                </a:solidFill>
                <a:miter/>
                <a:tailEnd len="med" type="triangle" w="med"/>
              </a:ln>
            </p:spPr>
          </p:cxnSp>
          <p:sp>
            <p:nvSpPr>
              <p:cNvPr id="221" name=""/>
              <p:cNvSpPr/>
              <p:nvPr/>
            </p:nvSpPr>
            <p:spPr>
              <a:xfrm>
                <a:off x="609480" y="3657600"/>
                <a:ext cx="0" cy="457200"/>
              </a:xfrm>
              <a:prstGeom prst="line">
                <a:avLst/>
              </a:prstGeom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"/>
          <p:cNvSpPr/>
          <p:nvPr/>
        </p:nvSpPr>
        <p:spPr>
          <a:xfrm>
            <a:off x="4114800" y="1219320"/>
            <a:ext cx="4876920" cy="542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!FontType1-1.0: Monotype Corsiv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 Generated by: org.freehep.graphics2d.FontEmbedderType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 dict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FontInfo 8 dict dup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FullName (Monotype Corsiva) readonly de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FamilyName (Monotype Corsiva) 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Encoding 256 arra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255 {1 index exch /.notdef put} f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4 /breve 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5 /caron 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...]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55 /ydieresis 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dict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up /Private 8 dict dup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index /CharStrings 230 dict dup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breve 91 RD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caron 40 RD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...]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ydieresis 360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.notdef 38 RD [binary data]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end readonly put noaccess 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up /FontName get exch definefont p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8454-1A00-4D6B-939D-F19E1A7023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6 Font Embedding Class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04920" y="2253600"/>
            <a:ext cx="3771360" cy="1345680"/>
            <a:chOff x="304920" y="2253600"/>
            <a:chExt cx="3771360" cy="1345680"/>
          </a:xfrm>
        </p:grpSpPr>
        <p:sp>
          <p:nvSpPr>
            <p:cNvPr id="225" name=""/>
            <p:cNvSpPr/>
            <p:nvPr/>
          </p:nvSpPr>
          <p:spPr>
            <a:xfrm>
              <a:off x="304920" y="2895480"/>
              <a:ext cx="243828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ntIncluder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5" idx="0"/>
              <a:endCxn id="227" idx="2"/>
            </p:cNvCxnSpPr>
            <p:nvPr/>
          </p:nvCxnSpPr>
          <p:spPr>
            <a:xfrm flipV="1">
              <a:off x="1523520" y="2253600"/>
              <a:ext cx="2553120" cy="63252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227" name=""/>
          <p:cNvSpPr/>
          <p:nvPr/>
        </p:nvSpPr>
        <p:spPr>
          <a:xfrm>
            <a:off x="2743200" y="1828800"/>
            <a:ext cx="2666880" cy="398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Inclu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3048120"/>
            <a:ext cx="2210040" cy="398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0"/>
            <a:endCxn id="227" idx="2"/>
          </p:cNvCxnSpPr>
          <p:nvPr/>
        </p:nvCxnSpPr>
        <p:spPr>
          <a:xfrm flipH="1" flipV="1">
            <a:off x="4076280" y="2253960"/>
            <a:ext cx="1524960" cy="78480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6553080" y="4343400"/>
            <a:ext cx="221004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5562720"/>
            <a:ext cx="221004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FTyp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0"/>
            <a:endCxn id="230" idx="2"/>
          </p:cNvCxnSpPr>
          <p:nvPr/>
        </p:nvCxnSpPr>
        <p:spPr>
          <a:xfrm flipV="1">
            <a:off x="7657920" y="5073120"/>
            <a:ext cx="1080" cy="48024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30" idx="0"/>
            <a:endCxn id="228" idx="2"/>
          </p:cNvCxnSpPr>
          <p:nvPr/>
        </p:nvCxnSpPr>
        <p:spPr>
          <a:xfrm flipH="1" flipV="1">
            <a:off x="5600520" y="3472560"/>
            <a:ext cx="2057760" cy="86148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3429000" y="4343400"/>
            <a:ext cx="22096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5562720"/>
            <a:ext cx="22096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1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0"/>
            <a:endCxn id="234" idx="2"/>
          </p:cNvCxnSpPr>
          <p:nvPr/>
        </p:nvCxnSpPr>
        <p:spPr>
          <a:xfrm flipV="1">
            <a:off x="4533480" y="5073120"/>
            <a:ext cx="1080" cy="48024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4" idx="0"/>
            <a:endCxn id="228" idx="2"/>
          </p:cNvCxnSpPr>
          <p:nvPr/>
        </p:nvCxnSpPr>
        <p:spPr>
          <a:xfrm flipV="1">
            <a:off x="4533840" y="3472560"/>
            <a:ext cx="1067760" cy="86148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304920" y="5562720"/>
            <a:ext cx="24382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0"/>
          </p:cNvCxnSpPr>
          <p:nvPr/>
        </p:nvCxnSpPr>
        <p:spPr>
          <a:xfrm flipV="1">
            <a:off x="1523520" y="3962160"/>
            <a:ext cx="1080" cy="1591200"/>
          </a:xfrm>
          <a:prstGeom prst="bentConnector2">
            <a:avLst/>
          </a:prstGeom>
          <a:ln w="28440">
            <a:solidFill>
              <a:srgbClr val="ccecff"/>
            </a:solidFill>
            <a:miter/>
          </a:ln>
        </p:spPr>
      </p:cxnSp>
      <p:cxnSp>
        <p:nvCxnSpPr>
          <p:cNvPr id="240" name=""/>
          <p:cNvCxnSpPr>
            <a:endCxn id="228" idx="2"/>
          </p:cNvCxnSpPr>
          <p:nvPr/>
        </p:nvCxnSpPr>
        <p:spPr>
          <a:xfrm flipV="1">
            <a:off x="1523520" y="3472920"/>
            <a:ext cx="4077720" cy="48960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5C72-FAAC-4736-828A-43A80A0065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 Todo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DF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umbnails and bookmarks for PDF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yclic gradient and custom fil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nt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dd hints to type 1 font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isc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gress bar for exporting fi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A211-E44D-4BCA-9367-870C68EBE0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ackage structure and inheritance tre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User’s view: example and dem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nt inclus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o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DB47-A6AB-4B38-B13B-FFAAF54F9D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ocument"/>
          <p:cNvSpPr/>
          <p:nvPr/>
        </p:nvSpPr>
        <p:spPr>
          <a:xfrm rot="5400000">
            <a:off x="7315200" y="4190760"/>
            <a:ext cx="1447560" cy="19051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1.1 Featur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xport graphics displayed on the screen to a fi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 a portable format (PDF, PS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dependent of the generating application (e.g. JAS/WIRE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dditional features (limited html strings, symbols…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ubclass the </a:t>
            </a:r>
            <a:r>
              <a:rPr b="0" lang="en-US" sz="2800" spc="-1" strike="noStrike">
                <a:solidFill>
                  <a:srgbClr val="ccecff"/>
                </a:solidFill>
                <a:latin typeface="Courier New"/>
              </a:rPr>
              <a:t>java.awt.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easily export everything that can be rendered by a graphics con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computr1"/>
          <p:cNvSpPr/>
          <p:nvPr/>
        </p:nvSpPr>
        <p:spPr>
          <a:xfrm>
            <a:off x="7029360" y="1447920"/>
            <a:ext cx="1962360" cy="1962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rz-plots" descr=""/>
          <p:cNvPicPr/>
          <p:nvPr/>
        </p:nvPicPr>
        <p:blipFill>
          <a:blip r:embed="rId1"/>
          <a:stretch/>
        </p:blipFill>
        <p:spPr>
          <a:xfrm>
            <a:off x="7467480" y="4800600"/>
            <a:ext cx="1295640" cy="961920"/>
          </a:xfrm>
          <a:prstGeom prst="rect">
            <a:avLst/>
          </a:prstGeom>
          <a:ln w="0">
            <a:noFill/>
          </a:ln>
        </p:spPr>
      </p:pic>
      <p:pic>
        <p:nvPicPr>
          <p:cNvPr id="52" name="rz-plots" descr=""/>
          <p:cNvPicPr/>
          <p:nvPr/>
        </p:nvPicPr>
        <p:blipFill>
          <a:blip r:embed="rId2"/>
          <a:stretch/>
        </p:blipFill>
        <p:spPr>
          <a:xfrm>
            <a:off x="7391520" y="1600200"/>
            <a:ext cx="1218960" cy="90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97160" y="449568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F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3505320"/>
            <a:ext cx="609480" cy="914400"/>
          </a:xfrm>
          <a:prstGeom prst="downArrow">
            <a:avLst>
              <a:gd name="adj1" fmla="val 50000"/>
              <a:gd name="adj2" fmla="val 37507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89A2-82EC-4EC9-AC0E-73868D7AC2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1.2 Division of Work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at we built 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ark Dönszelmann: PDF writer and utiliti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harles Loomis: PSGraphics and VectorGraphics interfac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at’s new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Type1 and Type3 font embedding both for ps and pdf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ultipage outpu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D1EE-D66B-4728-A33A-01C82B19A4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371600"/>
            <a:ext cx="7162920" cy="2057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657600"/>
            <a:ext cx="7162920" cy="3048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717480" y="21776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984240" y="4273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2.1 The </a:t>
            </a:r>
            <a:r>
              <a:rPr b="1" lang="en-US" sz="3600" spc="-1" strike="noStrike">
                <a:solidFill>
                  <a:srgbClr val="ffff99"/>
                </a:solidFill>
                <a:latin typeface="Courier New"/>
              </a:rPr>
              <a:t>graphics2d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Inheritance Tre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819520" y="5119200"/>
            <a:ext cx="2971800" cy="1451880"/>
            <a:chOff x="2819520" y="5119200"/>
            <a:chExt cx="2971800" cy="1451880"/>
          </a:xfrm>
        </p:grpSpPr>
        <p:sp>
          <p:nvSpPr>
            <p:cNvPr id="63" name=""/>
            <p:cNvSpPr/>
            <p:nvPr/>
          </p:nvSpPr>
          <p:spPr>
            <a:xfrm>
              <a:off x="2819520" y="5562720"/>
              <a:ext cx="2743200" cy="100836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ctorGraphics2D</a:t>
              </a:r>
              <a:br>
                <a:rPr sz="24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ymbol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uble wrapp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63" idx="0"/>
              <a:endCxn id="65" idx="2"/>
            </p:cNvCxnSpPr>
            <p:nvPr/>
          </p:nvCxnSpPr>
          <p:spPr>
            <a:xfrm flipV="1">
              <a:off x="4190760" y="5119200"/>
              <a:ext cx="1600920" cy="4341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6" name=""/>
            <p:cNvCxnSpPr>
              <a:stCxn id="63" idx="0"/>
              <a:endCxn id="67" idx="2"/>
            </p:cNvCxnSpPr>
            <p:nvPr/>
          </p:nvCxnSpPr>
          <p:spPr>
            <a:xfrm flipH="1" flipV="1">
              <a:off x="3047400" y="5119200"/>
              <a:ext cx="1143720" cy="434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"/>
          <p:cNvGrpSpPr/>
          <p:nvPr/>
        </p:nvGrpSpPr>
        <p:grpSpPr>
          <a:xfrm>
            <a:off x="4495680" y="1523880"/>
            <a:ext cx="2590920" cy="3568680"/>
            <a:chOff x="4495680" y="1523880"/>
            <a:chExt cx="2590920" cy="3568680"/>
          </a:xfrm>
        </p:grpSpPr>
        <p:sp>
          <p:nvSpPr>
            <p:cNvPr id="69" name=""/>
            <p:cNvSpPr/>
            <p:nvPr/>
          </p:nvSpPr>
          <p:spPr>
            <a:xfrm>
              <a:off x="4495680" y="1523880"/>
              <a:ext cx="2590920" cy="15570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ectorGraphics1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Line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tring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Image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ymbol()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95680" y="3809880"/>
              <a:ext cx="2590920" cy="12826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ectorGraphics2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(Shape)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Transform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Stroke()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5" idx="0"/>
              <a:endCxn id="69" idx="2"/>
            </p:cNvCxnSpPr>
            <p:nvPr/>
          </p:nvCxnSpPr>
          <p:spPr>
            <a:xfrm flipV="1">
              <a:off x="5790960" y="3107520"/>
              <a:ext cx="1080" cy="6930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71" name=""/>
          <p:cNvSpPr/>
          <p:nvPr/>
        </p:nvSpPr>
        <p:spPr>
          <a:xfrm>
            <a:off x="2057400" y="1828800"/>
            <a:ext cx="1979640" cy="12826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Lin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String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Image()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3809880"/>
            <a:ext cx="1981080" cy="12826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2D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(Shap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ransfor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troke()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71" idx="2"/>
          </p:cNvCxnSpPr>
          <p:nvPr/>
        </p:nvCxnSpPr>
        <p:spPr>
          <a:xfrm flipV="1">
            <a:off x="3047760" y="3137760"/>
            <a:ext cx="1080" cy="6627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052B-A340-43B6-BA06-3C9CA729DD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2 The </a:t>
            </a:r>
            <a:r>
              <a:rPr b="1" lang="en-US" sz="4400" spc="-1" strike="noStrike">
                <a:solidFill>
                  <a:srgbClr val="ffff99"/>
                </a:solidFill>
                <a:latin typeface="Courier New"/>
              </a:rPr>
              <a:t>VectorGraphics2D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Implementation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urier New"/>
              </a:rPr>
              <a:t>VectorGraphics2D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implementation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ixel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S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VG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dditional Exportfilters for bitmap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gif, png, ppm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41CB-0569-482D-8B03-E6195E0CE4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3 Additional Utility Class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62120" y="1752480"/>
            <a:ext cx="3733560" cy="2906280"/>
            <a:chOff x="762120" y="1752480"/>
            <a:chExt cx="3733560" cy="2906280"/>
          </a:xfrm>
        </p:grpSpPr>
        <p:sp>
          <p:nvSpPr>
            <p:cNvPr id="77" name=""/>
            <p:cNvSpPr/>
            <p:nvPr/>
          </p:nvSpPr>
          <p:spPr>
            <a:xfrm>
              <a:off x="762120" y="2590920"/>
              <a:ext cx="3733560" cy="20678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ectorGraphics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ing of pa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culation of align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ctory metho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2120" y="1752480"/>
              <a:ext cx="373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Methods common to all format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105520" y="1752480"/>
            <a:ext cx="3581280" cy="4343400"/>
            <a:chOff x="5105520" y="1752480"/>
            <a:chExt cx="3581280" cy="4343400"/>
          </a:xfrm>
        </p:grpSpPr>
        <p:sp>
          <p:nvSpPr>
            <p:cNvPr id="80" name=""/>
            <p:cNvSpPr/>
            <p:nvPr/>
          </p:nvSpPr>
          <p:spPr>
            <a:xfrm>
              <a:off x="5105520" y="1752480"/>
              <a:ext cx="3581280" cy="4343400"/>
            </a:xfrm>
            <a:custGeom>
              <a:avLst/>
              <a:gdLst>
                <a:gd name="textAreaLeft" fmla="*/ 174600 w 3581280"/>
                <a:gd name="textAreaRight" fmla="*/ 3406680 w 3581280"/>
                <a:gd name="textAreaTop" fmla="*/ 174600 h 4343400"/>
                <a:gd name="textAreaBottom" fmla="*/ 4168800 h 4343400"/>
              </a:gdLst>
              <a:ahLst/>
              <a:rect l="textAreaLeft" t="textAreaTop" r="textAreaRight" b="textAreaBottom"/>
              <a:pathLst>
                <a:path w="21600" h="26196">
                  <a:moveTo>
                    <a:pt x="3600" y="0"/>
                  </a:moveTo>
                  <a:arcTo wR="3600" hR="3600" stAng="16200000" swAng="-5400000"/>
                  <a:lnTo>
                    <a:pt x="0" y="22596"/>
                  </a:lnTo>
                  <a:arcTo wR="3600" hR="3600" stAng="10800000" swAng="-5400000"/>
                  <a:lnTo>
                    <a:pt x="18000" y="261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7800" y="1752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ortchoo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412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" name=""/>
            <p:cNvCxnSpPr>
              <a:stCxn id="84" idx="0"/>
              <a:endCxn id="85" idx="2"/>
            </p:cNvCxnSpPr>
            <p:nvPr/>
          </p:nvCxnSpPr>
          <p:spPr>
            <a:xfrm flipV="1">
              <a:off x="6857640" y="3285720"/>
              <a:ext cx="1080" cy="286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grpSp>
          <p:nvGrpSpPr>
            <p:cNvPr id="86" name=""/>
            <p:cNvGrpSpPr/>
            <p:nvPr/>
          </p:nvGrpSpPr>
          <p:grpSpPr>
            <a:xfrm>
              <a:off x="5486400" y="3352680"/>
              <a:ext cx="2743200" cy="1450440"/>
              <a:chOff x="5486400" y="3352680"/>
              <a:chExt cx="2743200" cy="1450440"/>
            </a:xfrm>
          </p:grpSpPr>
          <p:sp>
            <p:nvSpPr>
              <p:cNvPr id="84" name=""/>
              <p:cNvSpPr/>
              <p:nvPr/>
            </p:nvSpPr>
            <p:spPr>
              <a:xfrm>
                <a:off x="5486400" y="3581280"/>
                <a:ext cx="2743200" cy="12218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ExportGraphics</a:t>
                </a:r>
                <a:br>
                  <a:rPr sz="2000"/>
                </a:b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FileType</a:t>
                </a:r>
                <a:br>
                  <a:rPr sz="2000"/>
                </a:b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getConfiguredGraphics()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xportToFile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33600" y="3352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486400" y="2362320"/>
              <a:ext cx="2743200" cy="914400"/>
              <a:chOff x="5486400" y="2362320"/>
              <a:chExt cx="2743200" cy="914400"/>
            </a:xfrm>
          </p:grpSpPr>
          <p:sp>
            <p:nvSpPr>
              <p:cNvPr id="89" name=""/>
              <p:cNvSpPr/>
              <p:nvPr/>
            </p:nvSpPr>
            <p:spPr>
              <a:xfrm>
                <a:off x="5486400" y="2362320"/>
                <a:ext cx="2743200" cy="6120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xportDialog</a:t>
                </a:r>
                <a:br>
                  <a:rPr sz="20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howExportDialog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1680" y="3048120"/>
                <a:ext cx="152640" cy="228600"/>
              </a:xfrm>
              <a:prstGeom prst="diamond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33600" y="3048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1" name=""/>
            <p:cNvCxnSpPr>
              <a:stCxn id="82" idx="0"/>
              <a:endCxn id="84" idx="2"/>
            </p:cNvCxnSpPr>
            <p:nvPr/>
          </p:nvCxnSpPr>
          <p:spPr>
            <a:xfrm flipV="1">
              <a:off x="5790960" y="4828320"/>
              <a:ext cx="106740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" name=""/>
            <p:cNvSpPr/>
            <p:nvPr/>
          </p:nvSpPr>
          <p:spPr>
            <a:xfrm>
              <a:off x="640080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2" idx="0"/>
              <a:endCxn id="84" idx="2"/>
            </p:cNvCxnSpPr>
            <p:nvPr/>
          </p:nvCxnSpPr>
          <p:spPr>
            <a:xfrm flipV="1">
              <a:off x="6857640" y="4828320"/>
              <a:ext cx="108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95" idx="0"/>
              <a:endCxn id="84" idx="2"/>
            </p:cNvCxnSpPr>
            <p:nvPr/>
          </p:nvCxnSpPr>
          <p:spPr>
            <a:xfrm flipH="1" flipV="1">
              <a:off x="6857280" y="4828320"/>
              <a:ext cx="106740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746748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3279-0905-4BDC-9ED8-9BECF12163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3.1 Code Exampl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828800"/>
            <a:ext cx="8763120" cy="4863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or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Component compon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String file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DFGraphics2D graphic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PDFGraphics2D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eatePDFGraphics2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component.getSize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new FileOutputStream(file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.writeHeader(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component.printAll(graphic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graphics.donePrinting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25BE-1ED3-4133-B239-33B0089B5B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19800000">
            <a:off x="1199880" y="2787120"/>
            <a:ext cx="65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Arial Black"/>
              </a:rPr>
              <a:t>D E M O</a:t>
            </a:r>
            <a:endParaRPr b="1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F027-2D38-4AAB-A511-0E67F2F343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34:51Z</dcterms:created>
  <dc:creator>Simon Fischer</dc:creator>
  <dc:description/>
  <dc:language>en-US</dc:language>
  <cp:lastModifiedBy>Mark Donszelmann</cp:lastModifiedBy>
  <dcterms:modified xsi:type="dcterms:W3CDTF">2001-08-23T13:47:28Z</dcterms:modified>
  <cp:revision>145</cp:revision>
  <dc:subject/>
  <dc:title>PowerPoint Presentation</dc:title>
</cp:coreProperties>
</file>