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082-9553-48C9-8E66-9482376A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0C9-9453-42F3-A4A2-A3AAB46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27C-4653-4803-8E5D-AC6123BE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2B4-EE85-414C-84FB-6D5AF5CA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A6A-E0E2-4F8C-8BA6-F7836A4F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095-8E3C-433A-AF5A-E83E8AD6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BA8-AE26-4A60-A810-D5C9452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FE4-0C0A-4D10-9152-03432311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3E4-2397-4E5F-A258-2E4459B2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7DD-960C-4842-B860-B07D6633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C8E-07D7-466C-B413-7C00039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762-D318-49F6-8CC2-9565858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4DDD-E2B9-4F35-B5C6-970905F72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26760" y="4888800"/>
            <a:ext cx="1579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9920" y="5639400"/>
            <a:ext cx="17323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62000" y="2743920"/>
            <a:ext cx="12078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1280" y="4050360"/>
            <a:ext cx="209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60" y="626040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440" y="565056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240" y="4877640"/>
            <a:ext cx="2146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4080" y="2743920"/>
            <a:ext cx="2323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480" y="1688400"/>
            <a:ext cx="1689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040" y="4039200"/>
            <a:ext cx="2024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697680"/>
            <a:ext cx="1448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0"/>
            <a:endCxn id="53" idx="2"/>
          </p:cNvCxnSpPr>
          <p:nvPr/>
        </p:nvCxnSpPr>
        <p:spPr>
          <a:xfrm flipV="1" rot="16200000">
            <a:off x="3095640" y="62640"/>
            <a:ext cx="622800" cy="2629080"/>
          </a:xfrm>
          <a:prstGeom prst="bentConnector3">
            <a:avLst>
              <a:gd name="adj1" fmla="val 5002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50" idx="0"/>
            <a:endCxn id="51" idx="2"/>
          </p:cNvCxnSpPr>
          <p:nvPr/>
        </p:nvCxnSpPr>
        <p:spPr>
          <a:xfrm flipH="1" flipV="1" rot="5400000">
            <a:off x="3529440" y="1552680"/>
            <a:ext cx="687600" cy="1695600"/>
          </a:xfrm>
          <a:prstGeom prst="bentConnector3">
            <a:avLst>
              <a:gd name="adj1" fmla="val 5002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0"/>
            <a:endCxn id="50" idx="2"/>
          </p:cNvCxnSpPr>
          <p:nvPr/>
        </p:nvCxnSpPr>
        <p:spPr>
          <a:xfrm flipH="1" flipV="1" rot="5400000">
            <a:off x="765720" y="4000320"/>
            <a:ext cx="3148560" cy="137196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3" idx="0"/>
            <a:endCxn id="45" idx="2"/>
          </p:cNvCxnSpPr>
          <p:nvPr/>
        </p:nvCxnSpPr>
        <p:spPr>
          <a:xfrm flipH="1" flipV="1" rot="5400000">
            <a:off x="6502680" y="3425760"/>
            <a:ext cx="1776960" cy="114948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" name=""/>
          <p:cNvCxnSpPr>
            <a:stCxn id="44" idx="0"/>
            <a:endCxn id="45" idx="2"/>
          </p:cNvCxnSpPr>
          <p:nvPr/>
        </p:nvCxnSpPr>
        <p:spPr>
          <a:xfrm flipV="1" rot="16200000">
            <a:off x="6702120" y="4375440"/>
            <a:ext cx="2527560" cy="720"/>
          </a:xfrm>
          <a:prstGeom prst="bentConnector3">
            <a:avLst>
              <a:gd name="adj1" fmla="val 5001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9" idx="0"/>
            <a:endCxn id="50" idx="2"/>
          </p:cNvCxnSpPr>
          <p:nvPr/>
        </p:nvCxnSpPr>
        <p:spPr>
          <a:xfrm flipV="1" rot="16200000">
            <a:off x="2342880" y="3795120"/>
            <a:ext cx="1765800" cy="399960"/>
          </a:xfrm>
          <a:prstGeom prst="bentConnector3">
            <a:avLst>
              <a:gd name="adj1" fmla="val 5002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8" idx="0"/>
            <a:endCxn id="49" idx="2"/>
          </p:cNvCxnSpPr>
          <p:nvPr/>
        </p:nvCxnSpPr>
        <p:spPr>
          <a:xfrm flipH="1" flipV="1" rot="5400000">
            <a:off x="3219840" y="5445360"/>
            <a:ext cx="405000" cy="6480"/>
          </a:xfrm>
          <a:prstGeom prst="bentConnector3">
            <a:avLst>
              <a:gd name="adj1" fmla="val 5008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6" idx="0"/>
            <a:endCxn id="51" idx="2"/>
          </p:cNvCxnSpPr>
          <p:nvPr/>
        </p:nvCxnSpPr>
        <p:spPr>
          <a:xfrm rot="16200000">
            <a:off x="3724200" y="3053520"/>
            <a:ext cx="199404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2" idx="0"/>
            <a:endCxn id="53" idx="2"/>
          </p:cNvCxnSpPr>
          <p:nvPr/>
        </p:nvCxnSpPr>
        <p:spPr>
          <a:xfrm flipH="1" flipV="1" rot="5400000">
            <a:off x="189360" y="2136600"/>
            <a:ext cx="2973600" cy="832320"/>
          </a:xfrm>
          <a:prstGeom prst="bentConnector3">
            <a:avLst>
              <a:gd name="adj1" fmla="val 5000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710760" y="62485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3160" y="152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21Z</dcterms:modified>
  <cp:revision>26</cp:revision>
  <dc:subject/>
  <dc:title>Slide 1</dc:title>
</cp:coreProperties>
</file>