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90C-BCD7-41A9-B271-06300333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F1E-CE25-414D-A57E-26B76EF3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DEE-31E6-4E0C-AE5E-FE4EEDA3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821-773A-465C-BE32-827807D1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D3F-7F14-426D-A568-45DB51AE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720-5D61-4F5D-A57D-97CE49F9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727-CE3C-4A23-9026-CA1E16C0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BBD-6BF0-43BA-B75E-5755E33A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E2A-8F99-4FB2-AC6A-AC3A1CCF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734-BE7A-4CB6-A385-0F63F9C6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424-9292-4305-BA4C-CB02D0E0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79C-B0C6-43EC-B4F2-8CE474B3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69E7-8ACE-4CAC-9958-E6ECBF09A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027080"/>
            <a:ext cx="8303400" cy="4763880"/>
            <a:chOff x="457200" y="1027080"/>
            <a:chExt cx="8303400" cy="4763880"/>
          </a:xfrm>
        </p:grpSpPr>
        <p:sp>
          <p:nvSpPr>
            <p:cNvPr id="43" name=""/>
            <p:cNvSpPr/>
            <p:nvPr/>
          </p:nvSpPr>
          <p:spPr>
            <a:xfrm>
              <a:off x="3304800" y="5180040"/>
              <a:ext cx="5455800" cy="61092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"/>
            <p:cNvCxnSpPr>
              <a:stCxn id="45" idx="2"/>
              <a:endCxn id="46" idx="1"/>
            </p:cNvCxnSpPr>
            <p:nvPr/>
          </p:nvCxnSpPr>
          <p:spPr>
            <a:xfrm flipH="1" rot="16200000">
              <a:off x="2306880" y="1401480"/>
              <a:ext cx="334800" cy="166176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7" name=""/>
            <p:cNvSpPr/>
            <p:nvPr/>
          </p:nvSpPr>
          <p:spPr>
            <a:xfrm>
              <a:off x="3304800" y="4332240"/>
              <a:ext cx="5455800" cy="610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04800" y="2806920"/>
              <a:ext cx="5455800" cy="1423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Graphics IO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w-level format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CGM, EMF, PDF and SW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04800" y="2094840"/>
              <a:ext cx="5455800" cy="610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 VectorGraph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200" y="1027080"/>
              <a:ext cx="2372760" cy="10382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Dia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04800" y="1027080"/>
              <a:ext cx="5455800" cy="6102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Graphics2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20:03:58Z</dcterms:modified>
  <cp:revision>27</cp:revision>
  <dc:subject/>
  <dc:title>Slide 1</dc:title>
</cp:coreProperties>
</file>