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0B2-271F-48B6-B6A0-29CEAD90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117-C331-42AB-9048-C997B488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598-A694-467E-8068-73461ACA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A2C-F73F-44B4-9A83-7BE0E030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B61-1329-4616-AB14-3E58646F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C11-00B1-497E-B1C4-21758BB0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736-8F21-4D6C-978D-F24CAFCC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98C-9E99-4695-BC83-BAF595E8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7B9-3CC9-4F69-9B0A-E17E7B69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DE0-DEAC-4020-B7AF-A4F2D1E4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218-979A-4DD5-9E0D-B9FA8881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0C4-2788-44B0-914C-635BF6C4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AF57-A353-49E3-A541-EF90A052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211560"/>
            <a:ext cx="122364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モード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68960" y="396720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20000" y="29242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消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5" idx="2"/>
            <a:endCxn id="41" idx="2"/>
          </p:cNvCxnSpPr>
          <p:nvPr/>
        </p:nvCxnSpPr>
        <p:spPr>
          <a:xfrm>
            <a:off x="314280" y="2644920"/>
            <a:ext cx="370440" cy="81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1440" y="22766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20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8" idx="6"/>
            <a:endCxn id="43" idx="0"/>
          </p:cNvCxnSpPr>
          <p:nvPr/>
        </p:nvCxnSpPr>
        <p:spPr>
          <a:xfrm>
            <a:off x="5724360" y="1953360"/>
            <a:ext cx="2088360" cy="97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2195640" y="16621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77956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英数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3932280"/>
            <a:ext cx="194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ビットバイト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15772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漢字モ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1" idx="0"/>
            <a:endCxn id="49" idx="2"/>
          </p:cNvCxnSpPr>
          <p:nvPr/>
        </p:nvCxnSpPr>
        <p:spPr>
          <a:xfrm flipV="1">
            <a:off x="1296360" y="1950480"/>
            <a:ext cx="899640" cy="126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1" idx="7"/>
            <a:endCxn id="50" idx="2"/>
          </p:cNvCxnSpPr>
          <p:nvPr/>
        </p:nvCxnSpPr>
        <p:spPr>
          <a:xfrm flipV="1">
            <a:off x="1729080" y="3067920"/>
            <a:ext cx="466920" cy="2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1" idx="5"/>
            <a:endCxn id="51" idx="2"/>
          </p:cNvCxnSpPr>
          <p:nvPr/>
        </p:nvCxnSpPr>
        <p:spPr>
          <a:xfrm>
            <a:off x="1729080" y="3642480"/>
            <a:ext cx="3222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1" idx="4"/>
            <a:endCxn id="52" idx="2"/>
          </p:cNvCxnSpPr>
          <p:nvPr/>
        </p:nvCxnSpPr>
        <p:spPr>
          <a:xfrm>
            <a:off x="1296360" y="3716280"/>
            <a:ext cx="899640" cy="173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765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72000" y="362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7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6"/>
            <a:endCxn id="48" idx="2"/>
          </p:cNvCxnSpPr>
          <p:nvPr/>
        </p:nvCxnSpPr>
        <p:spPr>
          <a:xfrm>
            <a:off x="3780000" y="1950480"/>
            <a:ext cx="360720" cy="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6"/>
            <a:endCxn id="62" idx="2"/>
          </p:cNvCxnSpPr>
          <p:nvPr/>
        </p:nvCxnSpPr>
        <p:spPr>
          <a:xfrm flipV="1">
            <a:off x="3780000" y="3066120"/>
            <a:ext cx="33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6"/>
            <a:endCxn id="42" idx="2"/>
          </p:cNvCxnSpPr>
          <p:nvPr/>
        </p:nvCxnSpPr>
        <p:spPr>
          <a:xfrm flipV="1">
            <a:off x="3994200" y="4218840"/>
            <a:ext cx="37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2" idx="6"/>
            <a:endCxn id="65" idx="2"/>
          </p:cNvCxnSpPr>
          <p:nvPr/>
        </p:nvCxnSpPr>
        <p:spPr>
          <a:xfrm>
            <a:off x="3780000" y="5446080"/>
            <a:ext cx="530280" cy="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3" idx="6"/>
            <a:endCxn id="41" idx="1"/>
          </p:cNvCxnSpPr>
          <p:nvPr/>
        </p:nvCxnSpPr>
        <p:spPr>
          <a:xfrm flipH="1">
            <a:off x="863280" y="3175920"/>
            <a:ext cx="7741440" cy="109800"/>
          </a:xfrm>
          <a:prstGeom prst="curvedConnector4">
            <a:avLst>
              <a:gd name="adj1" fmla="val -9"/>
              <a:gd name="adj2" fmla="val -2934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611280" y="5661000"/>
            <a:ext cx="1584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終端コー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41" idx="3"/>
            <a:endCxn id="67" idx="1"/>
          </p:cNvCxnSpPr>
          <p:nvPr/>
        </p:nvCxnSpPr>
        <p:spPr>
          <a:xfrm flipH="1">
            <a:off x="843120" y="3642480"/>
            <a:ext cx="20520" cy="210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901800" y="48690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66160" y="14130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|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10520" y="2565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|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701720"/>
            <a:ext cx="15840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8040" y="281448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09920" y="5203800"/>
            <a:ext cx="1584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字数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3440" y="371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2160" y="50133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|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2" idx="6"/>
            <a:endCxn id="43" idx="1"/>
          </p:cNvCxnSpPr>
          <p:nvPr/>
        </p:nvCxnSpPr>
        <p:spPr>
          <a:xfrm flipV="1">
            <a:off x="5702400" y="2997720"/>
            <a:ext cx="154980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42" idx="6"/>
            <a:endCxn id="43" idx="3"/>
          </p:cNvCxnSpPr>
          <p:nvPr/>
        </p:nvCxnSpPr>
        <p:spPr>
          <a:xfrm flipV="1">
            <a:off x="5952960" y="3354120"/>
            <a:ext cx="1299240" cy="86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6"/>
            <a:endCxn id="43" idx="4"/>
          </p:cNvCxnSpPr>
          <p:nvPr/>
        </p:nvCxnSpPr>
        <p:spPr>
          <a:xfrm flipV="1">
            <a:off x="5894280" y="3427560"/>
            <a:ext cx="1918440" cy="2028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715000" y="1700280"/>
            <a:ext cx="306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*(n/3) + 4*((n-3)%3) + 7*((n-4)%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84280" y="256392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1*(n/2) + 6*((n-2)%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7240" y="3429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4520" y="443700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03:19:37Z</dcterms:created>
  <dc:creator>Yusuke Yanbe</dc:creator>
  <dc:description/>
  <dc:language>en-US</dc:language>
  <cp:lastModifiedBy>Yusuke Yanbe</cp:lastModifiedBy>
  <dcterms:modified xsi:type="dcterms:W3CDTF">2006-10-15T03:43:39Z</dcterms:modified>
  <cp:revision>5</cp:revision>
  <dc:subject/>
  <dc:title>スライド 1</dc:title>
</cp:coreProperties>
</file>