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88188" cy="10209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3D9D-13CF-41C1-BB38-F004A97C4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EC0E-0777-4057-9051-ED00806A1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7E57-10BA-4989-A682-D919EF5DD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5FCD-DDDB-4378-8C7B-9B8C8A4DB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B416-068D-4BD6-91A5-6E7D5D1B4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010D-502D-407A-8CBA-0A5EDB2CD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036D-3B1A-45B8-9F87-04D9F6647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111F-D9F2-4E3A-9CAE-4F3A015FB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75D8-74E3-41C6-A943-4E1440FA5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BE65-24E3-4A28-9D18-BC7352CD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3BCB-3897-41D6-9630-881DB5CC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D10A-6454-4327-83C0-2FA6A9F00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3CCF1-ED7E-4018-BA55-BFFBEC9515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773360"/>
            <a:ext cx="7632720" cy="417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249228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328464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4005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4653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5229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164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8472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00360" y="134136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69120" y="725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うそうそ帳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53720" y="28116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9/12/2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作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88120" y="62420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うまく出来るかしら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1:29:08Z</dcterms:created>
  <dc:creator>株式会社ＮＴＴデータビジネスブレインズ</dc:creator>
  <dc:description/>
  <dc:language>en-US</dc:language>
  <cp:lastModifiedBy>株式会社ＮＴＴデータビジネスブレインズ</cp:lastModifiedBy>
  <dcterms:modified xsi:type="dcterms:W3CDTF">2009-12-22T11:30:08Z</dcterms:modified>
  <cp:revision>2</cp:revision>
  <dc:subject/>
  <dc:title>スライド 1</dc:title>
</cp:coreProperties>
</file>